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F5AE-553D-4832-B4D4-334D8D1DF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1BEF-D739-4553-A569-16EE21A77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7199-B555-43D2-B494-45777A6DB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2 = ligh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3 = heav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rbon 14 = unstable - radioa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18F1-32C8-4848-BCB3-CAE065423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112 known el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95 occur natural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s are produced in la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t elements are not stable enough to exist in pure form in nature therefore they are found as compound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t minerals are combinations of elemen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8DC-45AB-4582-8E5B-4466ACA25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213D-D07D-46F7-A4F7-80C15173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tals = good conductors of heat and electric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nmentals = elements that are poor conductors of heat and electric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talloids = elements with properties that are somewhat similar to metals and nonmet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A63-4A35-4089-B6F2-7A4E0F2D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w many protons, neutrons and electrons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4D9C-505B-47D9-B07E-D90E56852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31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82" name="Group 28"/>
            <p:cNvGrpSpPr/>
            <p:nvPr/>
          </p:nvGrpSpPr>
          <p:grpSpPr>
            <a:xfrm>
              <a:off x="449280" y="1828800"/>
              <a:ext cx="8305920" cy="4419720"/>
              <a:chOff x="449280" y="1828800"/>
              <a:chExt cx="8305920" cy="4419720"/>
            </a:xfrm>
          </p:grpSpPr>
          <p:sp>
            <p:nvSpPr>
              <p:cNvPr id="83" name="AutoShape 29"/>
              <p:cNvSpPr/>
              <p:nvPr/>
            </p:nvSpPr>
            <p:spPr>
              <a:xfrm>
                <a:off x="44928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30"/>
              <p:cNvSpPr/>
              <p:nvPr/>
            </p:nvSpPr>
            <p:spPr>
              <a:xfrm>
                <a:off x="1158480" y="2104920"/>
                <a:ext cx="5373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Universe is made of matte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86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88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91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6800760" y="1452600"/>
            <a:ext cx="2305080" cy="152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3"/>
          <p:cNvSpPr/>
          <p:nvPr/>
        </p:nvSpPr>
        <p:spPr>
          <a:xfrm>
            <a:off x="1295280" y="2819520"/>
            <a:ext cx="7010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s in one of 3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– definite shape &amp;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– definite volume, no definite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 – no definite volume, no definite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rcRect l="0" t="0" r="48097" b="0"/>
          <a:stretch/>
        </p:blipFill>
        <p:spPr>
          <a:xfrm>
            <a:off x="304920" y="457200"/>
            <a:ext cx="8634240" cy="533412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1"/>
          <p:cNvSpPr/>
          <p:nvPr/>
        </p:nvSpPr>
        <p:spPr>
          <a:xfrm>
            <a:off x="533520" y="609480"/>
            <a:ext cx="457200" cy="533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533520"/>
              <a:gd name="textAreaBottom" fmla="*/ 511200 h 533520"/>
            </a:gdLst>
            <a:ahLst/>
            <a:rect l="textAreaLeft" t="textAreaTop" r="textAreaRight" b="textAreaBottom"/>
            <a:pathLst>
              <a:path w="21600" h="25203">
                <a:moveTo>
                  <a:pt x="3600" y="0"/>
                </a:moveTo>
                <a:arcTo wR="3600" hR="3600" stAng="16200000" swAng="-5400000"/>
                <a:lnTo>
                  <a:pt x="0" y="21603"/>
                </a:lnTo>
                <a:arcTo wR="3600" hR="3600" stAng="10800000" swAng="-5400000"/>
                <a:lnTo>
                  <a:pt x="18000" y="25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ounded Rectangle 2"/>
          <p:cNvSpPr/>
          <p:nvPr/>
        </p:nvSpPr>
        <p:spPr>
          <a:xfrm>
            <a:off x="6248520" y="5335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rcRect l="51706" t="21365" r="0" b="0"/>
          <a:stretch/>
        </p:blipFill>
        <p:spPr>
          <a:xfrm>
            <a:off x="609480" y="533520"/>
            <a:ext cx="8001000" cy="53784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1447920" y="838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ry Your Own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Magnesium (M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Helium (H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ulfur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When an atom gains or loses electrons it becomes an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ins a positive or negative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xample = Lith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5915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at are the most reactive e</a:t>
            </a:r>
            <a:r>
              <a:rPr b="0" lang="en-US" sz="4400" spc="-1" strike="noStrike" baseline="30000">
                <a:solidFill>
                  <a:srgbClr val="c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VALENC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Outermost energy level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raw a Lewis Dot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5850000"/>
            <a:chOff x="0" y="0"/>
            <a:chExt cx="9159840" cy="5850000"/>
          </a:xfrm>
        </p:grpSpPr>
        <p:grpSp>
          <p:nvGrpSpPr>
            <p:cNvPr id="214" name="Group 3"/>
            <p:cNvGrpSpPr/>
            <p:nvPr/>
          </p:nvGrpSpPr>
          <p:grpSpPr>
            <a:xfrm>
              <a:off x="457200" y="1430280"/>
              <a:ext cx="8305920" cy="4419720"/>
              <a:chOff x="457200" y="1430280"/>
              <a:chExt cx="8305920" cy="4419720"/>
            </a:xfrm>
          </p:grpSpPr>
          <p:sp>
            <p:nvSpPr>
              <p:cNvPr id="215" name="AutoShape 4"/>
              <p:cNvSpPr/>
              <p:nvPr/>
            </p:nvSpPr>
            <p:spPr>
              <a:xfrm>
                <a:off x="457200" y="143028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5"/>
              <p:cNvSpPr/>
              <p:nvPr/>
            </p:nvSpPr>
            <p:spPr>
              <a:xfrm>
                <a:off x="1143720" y="1535040"/>
                <a:ext cx="185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Isot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18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20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23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5" name="Rectangle 16"/>
          <p:cNvSpPr/>
          <p:nvPr/>
        </p:nvSpPr>
        <p:spPr>
          <a:xfrm>
            <a:off x="1371600" y="3535200"/>
            <a:ext cx="7391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isotopes are radioactive and emit energy and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1362240" y="2014560"/>
            <a:ext cx="7162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otop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 an element have the same number of protons but varying numbers of neutr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1362240" y="2755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ve different mass numbers: the sum of the neutrons plus pro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236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1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231" name="Group 3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232" name="AutoShape 4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5"/>
              <p:cNvSpPr/>
              <p:nvPr/>
            </p:nvSpPr>
            <p:spPr>
              <a:xfrm>
                <a:off x="1142280" y="2104920"/>
                <a:ext cx="356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Why Atoms Bon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35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37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40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" name="Rectangle 22"/>
          <p:cNvSpPr/>
          <p:nvPr/>
        </p:nvSpPr>
        <p:spPr>
          <a:xfrm>
            <a:off x="1447920" y="2743200"/>
            <a:ext cx="70866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s are likely to for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bo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one or more atoms to fill their outermost energy level (valenc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unds form when atoms are more stable in a combin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st stable elements = Noble gases (group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59840" cy="5951520"/>
            <a:chOff x="0" y="0"/>
            <a:chExt cx="9159840" cy="5951520"/>
          </a:xfrm>
        </p:grpSpPr>
        <p:grpSp>
          <p:nvGrpSpPr>
            <p:cNvPr id="245" name="Group 3"/>
            <p:cNvGrpSpPr/>
            <p:nvPr/>
          </p:nvGrpSpPr>
          <p:grpSpPr>
            <a:xfrm>
              <a:off x="457200" y="1531800"/>
              <a:ext cx="8305920" cy="4419720"/>
              <a:chOff x="457200" y="1531800"/>
              <a:chExt cx="8305920" cy="4419720"/>
            </a:xfrm>
          </p:grpSpPr>
          <p:sp>
            <p:nvSpPr>
              <p:cNvPr id="246" name="AutoShape 4"/>
              <p:cNvSpPr/>
              <p:nvPr/>
            </p:nvSpPr>
            <p:spPr>
              <a:xfrm>
                <a:off x="457200" y="1531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5"/>
              <p:cNvSpPr/>
              <p:nvPr/>
            </p:nvSpPr>
            <p:spPr>
              <a:xfrm>
                <a:off x="1144080" y="1560600"/>
                <a:ext cx="5260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ypes of Chemical Bond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249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251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254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6" name="Rectangle 15"/>
          <p:cNvSpPr/>
          <p:nvPr/>
        </p:nvSpPr>
        <p:spPr>
          <a:xfrm>
            <a:off x="1343160" y="3027240"/>
            <a:ext cx="739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on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between positive and negative ions. There is a transfer of electron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380960" y="21384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valent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atoms share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371600" y="44370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tallic bon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 when metal ions share elec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valent Bond     Metallic Bo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456000" cy="4164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4146480" y="1905120"/>
            <a:ext cx="496908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1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97" name="Group 28"/>
            <p:cNvGrpSpPr/>
            <p:nvPr/>
          </p:nvGrpSpPr>
          <p:grpSpPr>
            <a:xfrm>
              <a:off x="449280" y="1828800"/>
              <a:ext cx="8305920" cy="4419720"/>
              <a:chOff x="449280" y="1828800"/>
              <a:chExt cx="8305920" cy="4419720"/>
            </a:xfrm>
          </p:grpSpPr>
          <p:sp>
            <p:nvSpPr>
              <p:cNvPr id="98" name="AutoShape 29"/>
              <p:cNvSpPr/>
              <p:nvPr/>
            </p:nvSpPr>
            <p:spPr>
              <a:xfrm>
                <a:off x="44928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>
                <a:off x="1143360" y="2104920"/>
                <a:ext cx="1986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ment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01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03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06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295280" y="28195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ubstance that cannot be broken down by chemical or physical 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er 100 elements are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 symbols ex: H = 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onic Bo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76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7"/>
          <p:cNvGrpSpPr/>
          <p:nvPr/>
        </p:nvGrpSpPr>
        <p:grpSpPr>
          <a:xfrm>
            <a:off x="-15840" y="0"/>
            <a:ext cx="9159840" cy="6248520"/>
            <a:chOff x="-15840" y="0"/>
            <a:chExt cx="9159840" cy="6248520"/>
          </a:xfrm>
        </p:grpSpPr>
        <p:grpSp>
          <p:nvGrpSpPr>
            <p:cNvPr id="111" name="Group 26"/>
            <p:cNvGrpSpPr/>
            <p:nvPr/>
          </p:nvGrpSpPr>
          <p:grpSpPr>
            <a:xfrm>
              <a:off x="441360" y="1430280"/>
              <a:ext cx="8305920" cy="4818240"/>
              <a:chOff x="441360" y="1430280"/>
              <a:chExt cx="8305920" cy="4818240"/>
            </a:xfrm>
          </p:grpSpPr>
          <p:sp>
            <p:nvSpPr>
              <p:cNvPr id="112" name="AutoShape 14"/>
              <p:cNvSpPr/>
              <p:nvPr/>
            </p:nvSpPr>
            <p:spPr>
              <a:xfrm>
                <a:off x="441360" y="1430280"/>
                <a:ext cx="8305920" cy="481824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6"/>
              <p:cNvSpPr/>
              <p:nvPr/>
            </p:nvSpPr>
            <p:spPr>
              <a:xfrm>
                <a:off x="1108440" y="160020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5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7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17" name="Line 8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9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Group 10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20" name="Line 11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Rectangle 12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Rectangle 24"/>
          <p:cNvSpPr/>
          <p:nvPr/>
        </p:nvSpPr>
        <p:spPr>
          <a:xfrm>
            <a:off x="1295280" y="2057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allest particles of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1314360" y="2600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all the characteristics of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1762200" y="4525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trons: neutral; mass = 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1314360" y="31194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cle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part of an atom and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1781280" y="4068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tons: positive charge; mass = 1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2"/>
          <p:cNvSpPr/>
          <p:nvPr/>
        </p:nvSpPr>
        <p:spPr>
          <a:xfrm>
            <a:off x="1422360" y="49831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number of protons AND neutrons in the nucle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59840" cy="6248520"/>
            <a:chOff x="0" y="0"/>
            <a:chExt cx="9159840" cy="6248520"/>
          </a:xfrm>
        </p:grpSpPr>
        <p:grpSp>
          <p:nvGrpSpPr>
            <p:cNvPr id="130" name="Group 3"/>
            <p:cNvGrpSpPr/>
            <p:nvPr/>
          </p:nvGrpSpPr>
          <p:grpSpPr>
            <a:xfrm>
              <a:off x="457200" y="1828800"/>
              <a:ext cx="8305920" cy="4419720"/>
              <a:chOff x="457200" y="1828800"/>
              <a:chExt cx="8305920" cy="4419720"/>
            </a:xfrm>
          </p:grpSpPr>
          <p:sp>
            <p:nvSpPr>
              <p:cNvPr id="131" name="AutoShape 4"/>
              <p:cNvSpPr/>
              <p:nvPr/>
            </p:nvSpPr>
            <p:spPr>
              <a:xfrm>
                <a:off x="457200" y="182880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5"/>
              <p:cNvSpPr/>
              <p:nvPr/>
            </p:nvSpPr>
            <p:spPr>
              <a:xfrm>
                <a:off x="1143360" y="2104920"/>
                <a:ext cx="144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tom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134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136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139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292400" y="2581200"/>
            <a:ext cx="44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ergy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1676520" y="3100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round the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1704960" y="3505320"/>
            <a:ext cx="7238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s: negative charge, 1/1836 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1305000" y="4410000"/>
            <a:ext cx="739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umber of protons in the nucleus of an atom. Also tells us the number of elec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-15840" y="0"/>
            <a:ext cx="9159840" cy="1430280"/>
            <a:chOff x="-15840" y="0"/>
            <a:chExt cx="9159840" cy="1430280"/>
          </a:xfrm>
        </p:grpSpPr>
        <p:sp>
          <p:nvSpPr>
            <p:cNvPr id="147" name="Rectangle 3"/>
            <p:cNvSpPr/>
            <p:nvPr/>
          </p:nvSpPr>
          <p:spPr>
            <a:xfrm>
              <a:off x="-936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-15840" y="0"/>
              <a:ext cx="9159840" cy="136440"/>
              <a:chOff x="-15840" y="0"/>
              <a:chExt cx="9159840" cy="13644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-1584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-1584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7"/>
            <p:cNvGrpSpPr/>
            <p:nvPr/>
          </p:nvGrpSpPr>
          <p:grpSpPr>
            <a:xfrm>
              <a:off x="-7920" y="1219320"/>
              <a:ext cx="9144000" cy="210960"/>
              <a:chOff x="-7920" y="1219320"/>
              <a:chExt cx="9144000" cy="210960"/>
            </a:xfrm>
          </p:grpSpPr>
          <p:sp>
            <p:nvSpPr>
              <p:cNvPr id="152" name="Line 8"/>
              <p:cNvSpPr/>
              <p:nvPr/>
            </p:nvSpPr>
            <p:spPr>
              <a:xfrm>
                <a:off x="-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-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of an At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Group 22"/>
          <p:cNvGrpSpPr/>
          <p:nvPr/>
        </p:nvGrpSpPr>
        <p:grpSpPr>
          <a:xfrm>
            <a:off x="914400" y="1676520"/>
            <a:ext cx="7467480" cy="4876560"/>
            <a:chOff x="914400" y="1676520"/>
            <a:chExt cx="7467480" cy="4876560"/>
          </a:xfrm>
        </p:grpSpPr>
        <p:sp>
          <p:nvSpPr>
            <p:cNvPr id="156" name="AutoShape 12"/>
            <p:cNvSpPr/>
            <p:nvPr/>
          </p:nvSpPr>
          <p:spPr>
            <a:xfrm>
              <a:off x="914400" y="1676520"/>
              <a:ext cx="7467480" cy="4876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Picture 21" descr=""/>
            <p:cNvPicPr/>
            <p:nvPr/>
          </p:nvPicPr>
          <p:blipFill>
            <a:blip r:embed="rId1"/>
            <a:stretch/>
          </p:blipFill>
          <p:spPr>
            <a:xfrm>
              <a:off x="1434960" y="2031840"/>
              <a:ext cx="6425640" cy="4165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2"/>
          <p:cNvSpPr/>
          <p:nvPr/>
        </p:nvSpPr>
        <p:spPr>
          <a:xfrm>
            <a:off x="3962520" y="2590920"/>
            <a:ext cx="1523880" cy="16002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076640" y="3160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3371760" y="1981080"/>
            <a:ext cx="2705040" cy="281952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2886120" y="1409760"/>
            <a:ext cx="3676680" cy="396252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7"/>
          <p:cNvSpPr/>
          <p:nvPr/>
        </p:nvSpPr>
        <p:spPr>
          <a:xfrm>
            <a:off x="2509920" y="971640"/>
            <a:ext cx="4429080" cy="4838760"/>
          </a:xfrm>
          <a:prstGeom prst="ellipse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4381560" y="151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4381560" y="971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371840" y="5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185760" y="309600"/>
            <a:ext cx="389088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Each energy level can hold a certain number of electrons. The farther away from the nucleus, the more electrons the energy level ca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176040" y="2438280"/>
            <a:ext cx="279576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The number of electrons each level can hold is determined by using the equation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where n = the number of the energ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6076800" y="2705040"/>
            <a:ext cx="2819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1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1) = 2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6229440" y="1473120"/>
            <a:ext cx="2819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2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4) = 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5791320" y="493560"/>
            <a:ext cx="3105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energy level = 2(n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3</a:t>
            </a:r>
            <a:r>
              <a:rPr b="0" lang="en-US" sz="2000" spc="-1" strike="noStrike" baseline="30000">
                <a:solidFill>
                  <a:srgbClr val="c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) = 2(9) = 18 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31"/>
          <p:cNvGrpSpPr/>
          <p:nvPr/>
        </p:nvGrpSpPr>
        <p:grpSpPr>
          <a:xfrm>
            <a:off x="-15840" y="0"/>
            <a:ext cx="9159840" cy="6257880"/>
            <a:chOff x="-15840" y="0"/>
            <a:chExt cx="9159840" cy="6257880"/>
          </a:xfrm>
        </p:grpSpPr>
        <p:grpSp>
          <p:nvGrpSpPr>
            <p:cNvPr id="172" name="Group 28"/>
            <p:cNvGrpSpPr/>
            <p:nvPr/>
          </p:nvGrpSpPr>
          <p:grpSpPr>
            <a:xfrm>
              <a:off x="449280" y="1838160"/>
              <a:ext cx="8305920" cy="4419720"/>
              <a:chOff x="449280" y="1838160"/>
              <a:chExt cx="8305920" cy="4419720"/>
            </a:xfrm>
          </p:grpSpPr>
          <p:sp>
            <p:nvSpPr>
              <p:cNvPr id="173" name="AutoShape 29"/>
              <p:cNvSpPr/>
              <p:nvPr/>
            </p:nvSpPr>
            <p:spPr>
              <a:xfrm>
                <a:off x="449280" y="1838160"/>
                <a:ext cx="8305920" cy="44197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>
                <a:off x="1132200" y="2104920"/>
                <a:ext cx="29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eriodic Tabl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16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5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78" name="Line 5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7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12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81" name="Line 10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1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1295280" y="2819520"/>
            <a:ext cx="701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Numb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valence electrons in each element in that group (colum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od Numbe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energy levels containing electrons for every element in that period (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897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hemical Symbol Inf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Content Placeholder 3" descr="Alumninum.jpg"/>
          <p:cNvPicPr/>
          <p:nvPr/>
        </p:nvPicPr>
        <p:blipFill>
          <a:blip r:embed="rId1"/>
          <a:stretch/>
        </p:blipFill>
        <p:spPr>
          <a:xfrm>
            <a:off x="1219320" y="914400"/>
            <a:ext cx="5711760" cy="571176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188" name="Rectangle 4"/>
          <p:cNvSpPr/>
          <p:nvPr/>
        </p:nvSpPr>
        <p:spPr>
          <a:xfrm>
            <a:off x="1371600" y="1066680"/>
            <a:ext cx="1523880" cy="83844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23880" y="1600200"/>
            <a:ext cx="609840" cy="76212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5562720" y="5334120"/>
            <a:ext cx="1218960" cy="106668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486400" y="5410080"/>
            <a:ext cx="152280" cy="106704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2286000" y="5943600"/>
            <a:ext cx="4191120" cy="533520"/>
          </a:xfrm>
          <a:prstGeom prst="rect">
            <a:avLst/>
          </a:prstGeom>
          <a:solidFill>
            <a:srgbClr val="dddddd"/>
          </a:solidFill>
          <a:ln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556272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eft Arrow 10"/>
          <p:cNvSpPr/>
          <p:nvPr/>
        </p:nvSpPr>
        <p:spPr>
          <a:xfrm>
            <a:off x="4648320" y="2286000"/>
            <a:ext cx="838080" cy="22860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eft Arrow 11"/>
          <p:cNvSpPr/>
          <p:nvPr/>
        </p:nvSpPr>
        <p:spPr>
          <a:xfrm>
            <a:off x="4952880" y="3657600"/>
            <a:ext cx="1067040" cy="3049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eft Arrow 12"/>
          <p:cNvSpPr/>
          <p:nvPr/>
        </p:nvSpPr>
        <p:spPr>
          <a:xfrm>
            <a:off x="4952880" y="4648320"/>
            <a:ext cx="99072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eft Arrow 13"/>
          <p:cNvSpPr/>
          <p:nvPr/>
        </p:nvSpPr>
        <p:spPr>
          <a:xfrm>
            <a:off x="4952880" y="5257800"/>
            <a:ext cx="11430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002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6095880" y="3657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5"/>
          <p:cNvSpPr/>
          <p:nvPr/>
        </p:nvSpPr>
        <p:spPr>
          <a:xfrm>
            <a:off x="60199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1722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Builder</cp:lastModifiedBy>
  <cp:lastPrinted>2009-04-22T19:24:48Z</cp:lastPrinted>
  <dcterms:modified xsi:type="dcterms:W3CDTF">2013-09-24T12:12:15Z</dcterms:modified>
  <cp:revision>353</cp:revision>
  <dc:subject/>
  <dc:title>Volcanoes and Igneous Activity  Earth  -  Chapter 4</dc:title>
</cp:coreProperties>
</file>